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2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821720" y="266760"/>
            <a:ext cx="853920" cy="4874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816600" y="0"/>
            <a:ext cx="2327400" cy="185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55800" y="1081080"/>
            <a:ext cx="668484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-dimensional earthquake FE simulation for a school-building by using Styrostone-form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9800" y="250920"/>
            <a:ext cx="6018480" cy="480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0" t="6940" r="0" b="8617"/>
          <a:stretch/>
        </p:blipFill>
        <p:spPr>
          <a:xfrm>
            <a:off x="5429160" y="4354560"/>
            <a:ext cx="2952720" cy="2198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200" y="4135320"/>
            <a:ext cx="1245960" cy="22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8040" y="21276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-Elemen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73320" y="976320"/>
            <a:ext cx="6341760" cy="559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907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400" y="21276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k Ground Acceleration in I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78000" y="1189080"/>
            <a:ext cx="5978520" cy="52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240000" y="3205080"/>
            <a:ext cx="2473560" cy="360"/>
            <a:chOff x="3240000" y="3205080"/>
            <a:chExt cx="2473560" cy="360"/>
          </a:xfrm>
        </p:grpSpPr>
        <p:sp>
          <p:nvSpPr>
            <p:cNvPr id="82" name=""/>
            <p:cNvSpPr/>
            <p:nvPr/>
          </p:nvSpPr>
          <p:spPr>
            <a:xfrm>
              <a:off x="3240000" y="3205080"/>
              <a:ext cx="2473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0" y="3205080"/>
              <a:ext cx="2473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240000" y="3205080"/>
              <a:ext cx="2473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0" y="3205080"/>
              <a:ext cx="2473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87280" y="3438360"/>
            <a:ext cx="420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quations for the normalized acceleration design spec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84760" y="3952800"/>
            <a:ext cx="388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response 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200" y="212760"/>
            <a:ext cx="59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ized acceleration design spec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22260" t="35722" r="30323" b="37749"/>
          <a:stretch/>
        </p:blipFill>
        <p:spPr>
          <a:xfrm>
            <a:off x="4799160" y="1128600"/>
            <a:ext cx="3584520" cy="2846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50800" y="1552680"/>
            <a:ext cx="415296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&lt;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: 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= 0,4*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 0,6 *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+(T/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&lt; T &lt;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 &gt;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S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Arial"/>
              </a:rPr>
              <a:t>D1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/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7680" y="4735440"/>
            <a:ext cx="420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ized acceleration design spectra was published by the  U.S. Geological Survey and National Institute of Building Sci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5553000"/>
            <a:ext cx="59608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loads for Teheran using the assumption of Site Classification E (stiff soil)  : 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D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= 1,1 , 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D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= 0,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7680" y="21276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24272" t="19532" r="19583" b="16796"/>
          <a:stretch/>
        </p:blipFill>
        <p:spPr>
          <a:xfrm>
            <a:off x="1790640" y="1190520"/>
            <a:ext cx="5854680" cy="531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7680" y="21276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i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193920" y="1093680"/>
                <a:ext cx="391032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Ü</m:t>
                    </m:r>
                    <m:r>
                      <m:t xml:space="preserve">+</m:t>
                    </m:r>
                    <m:r>
                      <m:t xml:space="preserve">C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U</m:t>
                        </m:r>
                      </m:e>
                    </m:acc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U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Ü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881440" y="1909800"/>
                <a:ext cx="38797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887560" y="2786040"/>
                <a:ext cx="285768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Φ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935760" y="2674800"/>
                <a:ext cx="20462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MΦ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18840" y="295416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8600" y="1166760"/>
            <a:ext cx="30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ial equation syst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5360" y="199404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genwert-Proble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2480" y="30970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dynamic Force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706840" y="4127400"/>
                <a:ext cx="2165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147600" y="417348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ic For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41360" y="4226040"/>
            <a:ext cx="312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cement, internal fo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9640" y="5192640"/>
            <a:ext cx="70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position methods for the vibration modes (SSRS,CQ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9480" y="21276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– 1.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49360" y="905040"/>
            <a:ext cx="7557840" cy="56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775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1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9480" y="22212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– 2.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22440" y="901800"/>
            <a:ext cx="7557840" cy="56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775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7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9480" y="21276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– 3.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49360" y="915840"/>
            <a:ext cx="7557840" cy="562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775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3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9480" y="21276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– 4.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38360" y="946080"/>
            <a:ext cx="7557840" cy="56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775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9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9480" y="21276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– 5.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38360" y="930240"/>
            <a:ext cx="7557840" cy="56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775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5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5160" y="212760"/>
            <a:ext cx="45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story school building in I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19328" r="0" b="15666"/>
          <a:stretch/>
        </p:blipFill>
        <p:spPr>
          <a:xfrm>
            <a:off x="204840" y="1117440"/>
            <a:ext cx="8939160" cy="512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9480" y="21276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– 6.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79320" y="946080"/>
            <a:ext cx="7558200" cy="56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775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1" dur="1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9480" y="21276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– 7.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50880" y="932040"/>
            <a:ext cx="7558200" cy="56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775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9480" y="21276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– 8.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36480" y="932040"/>
            <a:ext cx="7558200" cy="56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8" dur="775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3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9480" y="212760"/>
            <a:ext cx="27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– 9.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6480" y="974880"/>
            <a:ext cx="7558200" cy="56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4" dur="775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9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9840" y="212760"/>
            <a:ext cx="29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– 10.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2400" y="974880"/>
            <a:ext cx="7558200" cy="56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775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5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1920" y="401760"/>
            <a:ext cx="7475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–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kN/m] (internal force in x-direction)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applied earthquake x-accel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12717" r="0" b="6575"/>
          <a:stretch/>
        </p:blipFill>
        <p:spPr>
          <a:xfrm>
            <a:off x="587520" y="1276200"/>
            <a:ext cx="7557840" cy="5380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3280" y="401760"/>
            <a:ext cx="75009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–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kN/m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ternal force in y-direction)  for the applied earthquake x-accel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13291" r="0" b="5003"/>
          <a:stretch/>
        </p:blipFill>
        <p:spPr>
          <a:xfrm>
            <a:off x="355680" y="1193760"/>
            <a:ext cx="7557840" cy="544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7440" y="387360"/>
            <a:ext cx="7499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–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kN/m] (internal force in x-direction)  for the applied earthquake y-accel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14859" r="0" b="3811"/>
          <a:stretch/>
        </p:blipFill>
        <p:spPr>
          <a:xfrm>
            <a:off x="284040" y="1182600"/>
            <a:ext cx="7558200" cy="542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7440" y="357120"/>
            <a:ext cx="7413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 –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kN/m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ternal force in y-direction)  for the applied earthquake y-accel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2147" r="0" b="13720"/>
          <a:stretch/>
        </p:blipFill>
        <p:spPr>
          <a:xfrm>
            <a:off x="298440" y="1268280"/>
            <a:ext cx="7558200" cy="494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9480" y="21276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er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7200" y="942840"/>
            <a:ext cx="8655120" cy="69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perposition regarding the maximum earthquake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position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d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„+“ 0,3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3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d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„+“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earthquake force in x direction for a high stressed Styrostone-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70 + 0,3* 100 = 200 [kN/m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earthquake force in y direction for a high stressed Styrostone-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40 + 0,3* 120 = 276 [kN/m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reinforcement: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76 / 43,5 = 6,3 cm²/m &lt; 9 cm²/m = maximum reinforcement amount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6960" y="21276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nd – Level plan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rcRect l="0" t="7014" r="0" b="13893"/>
          <a:stretch/>
        </p:blipFill>
        <p:spPr>
          <a:xfrm>
            <a:off x="287280" y="1236600"/>
            <a:ext cx="8207280" cy="5261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2920" y="860400"/>
            <a:ext cx="75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 walls are designed with Styrostone-Formwork with a thickness of 142 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14360" y="1390680"/>
            <a:ext cx="828720" cy="1257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9480" y="212760"/>
            <a:ext cx="69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ces for earthquake design an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5680" y="1743120"/>
            <a:ext cx="8659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metric placing of the Styrostone Walls in the ground view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asement should be designed as a stiff 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l mass and stiffness distribution over the height of the buil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ss of non constructive walls  should be concer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of gravity and the center of torsion should be located in the same a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ing of the bracing elements in the area of the building ed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Bracing Styrostone Walls across all s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6880" y="1054080"/>
            <a:ext cx="53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should be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3000" y="212760"/>
            <a:ext cx="64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ing views in north and south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00360" y="1060560"/>
            <a:ext cx="6551640" cy="57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9480" y="212760"/>
            <a:ext cx="53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loads according to DIN 10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22360" y="1434960"/>
          <a:ext cx="7465680" cy="4171680"/>
        </p:xfrm>
        <a:graphic>
          <a:graphicData uri="http://schemas.openxmlformats.org/drawingml/2006/table">
            <a:tbl>
              <a:tblPr/>
              <a:tblGrid>
                <a:gridCol w="2747520"/>
                <a:gridCol w="1469520"/>
                <a:gridCol w="1713960"/>
                <a:gridCol w="1534680"/>
              </a:tblGrid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d l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d load for technical install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 lo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ndation pl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kN/m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 kN/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 kN/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th floor sl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5 kN/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0 kN/m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ncl. all nonstructural wall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th floor sl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h floor sl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th floor sl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6960" y="212760"/>
            <a:ext cx="60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lied load for earthquake cal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1080" y="1301760"/>
            <a:ext cx="7215480" cy="51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upplied design load according to  E DIN 4149-2002-10, Eq. 12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+"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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E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s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E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,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ertical load for earthquake calc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stic load distribution in vertical direction differentiated for each stor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+"1.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0,3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live load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 the last stor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+"1,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0,8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ive 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 the ba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+"0,7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0,3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other stor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8040" y="21276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-Elemen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6940" r="0" b="8617"/>
          <a:stretch/>
        </p:blipFill>
        <p:spPr>
          <a:xfrm>
            <a:off x="727200" y="1106640"/>
            <a:ext cx="7292880" cy="543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8040" y="21276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-Elemen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89240" y="1052640"/>
            <a:ext cx="6078240" cy="536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8040" y="21276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-Elemen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76400" y="1003320"/>
            <a:ext cx="6637320" cy="585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15:04:55Z</dcterms:created>
  <dc:creator>Privat</dc:creator>
  <dc:description/>
  <dc:language>en-US</dc:language>
  <cp:lastModifiedBy> </cp:lastModifiedBy>
  <cp:lastPrinted>2003-03-31T06:26:54Z</cp:lastPrinted>
  <dcterms:modified xsi:type="dcterms:W3CDTF">2004-09-23T08:44:57Z</dcterms:modified>
  <cp:revision>327</cp:revision>
  <dc:subject/>
  <dc:title>PowerPoint-Präsentation</dc:title>
</cp:coreProperties>
</file>